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57F-4C10-4DDB-B968-9A9F760B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251-C0F8-4E57-9560-65538F17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BC7-6073-49F1-A1D0-FB26AFFD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941-4604-4765-9BC3-68E8C135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8B7-31B0-44BE-8C9E-9294DDA9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2FF-FA74-4ECF-9875-3D443F52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740-D1DC-46C0-B2F5-A72B5030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93E-8E7E-45FF-9EC1-A3192BE4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208-FA96-461E-B6BD-9D69F21A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5D9-F306-4C87-911B-E9AE16D1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E21-D8FC-4041-8E49-A6AA5368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239-76F3-41F5-8DD0-39E6C5F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F982-00A0-468A-8362-8D9873D79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610480" cy="63244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160800" cy="327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41148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учитель начальных классов МОУ СОШ №49 г.Волгограда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533520"/>
            <a:ext cx="5829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ак образуютс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лоды?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200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к урокам окружающего мира 1-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613240" y="3011400"/>
            <a:ext cx="1258200" cy="953280"/>
            <a:chOff x="2613240" y="3011400"/>
            <a:chExt cx="1258200" cy="953280"/>
          </a:xfrm>
        </p:grpSpPr>
        <p:sp>
          <p:nvSpPr>
            <p:cNvPr id="48" name=""/>
            <p:cNvSpPr/>
            <p:nvPr/>
          </p:nvSpPr>
          <p:spPr>
            <a:xfrm rot="639600">
              <a:off x="2673000" y="3110040"/>
              <a:ext cx="1138320" cy="75564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609720" y="3498120"/>
              <a:ext cx="176760" cy="186480"/>
              <a:chOff x="3609720" y="3498120"/>
              <a:chExt cx="176760" cy="186480"/>
            </a:xfrm>
          </p:grpSpPr>
          <p:sp>
            <p:nvSpPr>
              <p:cNvPr id="50" name=""/>
              <p:cNvSpPr/>
              <p:nvPr/>
            </p:nvSpPr>
            <p:spPr>
              <a:xfrm rot="639600">
                <a:off x="3651120" y="3504960"/>
                <a:ext cx="92520" cy="172440"/>
              </a:xfrm>
              <a:custGeom>
                <a:avLst/>
                <a:gdLst>
                  <a:gd name="textAreaLeft" fmla="*/ 38160 w 92520"/>
                  <a:gd name="textAreaRight" fmla="*/ 54360 w 92520"/>
                  <a:gd name="textAreaTop" fmla="*/ 70920 h 172440"/>
                  <a:gd name="textAreaBottom" fmla="*/ 101520 h 17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9476600">
                <a:off x="3633120" y="3529080"/>
                <a:ext cx="129240" cy="123120"/>
              </a:xfrm>
              <a:custGeom>
                <a:avLst/>
                <a:gdLst>
                  <a:gd name="textAreaLeft" fmla="*/ 53280 w 129240"/>
                  <a:gd name="textAreaRight" fmla="*/ 75960 w 129240"/>
                  <a:gd name="textAreaTop" fmla="*/ 50760 h 123120"/>
                  <a:gd name="textAreaBottom" fmla="*/ 72360 h 12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4584600" y="3873600"/>
            <a:ext cx="4280040" cy="1092240"/>
          </a:xfrm>
          <a:custGeom>
            <a:avLst/>
            <a:gdLst/>
            <a:ahLst/>
            <a:rect l="l" t="t" r="r" b="b"/>
            <a:pathLst>
              <a:path w="2696" h="688">
                <a:moveTo>
                  <a:pt x="184" y="440"/>
                </a:moveTo>
                <a:cubicBezTo>
                  <a:pt x="368" y="504"/>
                  <a:pt x="1152" y="600"/>
                  <a:pt x="1384" y="632"/>
                </a:cubicBezTo>
                <a:cubicBezTo>
                  <a:pt x="1616" y="664"/>
                  <a:pt x="1472" y="688"/>
                  <a:pt x="1576" y="632"/>
                </a:cubicBezTo>
                <a:cubicBezTo>
                  <a:pt x="1680" y="576"/>
                  <a:pt x="1928" y="360"/>
                  <a:pt x="2008" y="296"/>
                </a:cubicBezTo>
                <a:cubicBezTo>
                  <a:pt x="2088" y="232"/>
                  <a:pt x="1944" y="296"/>
                  <a:pt x="2056" y="248"/>
                </a:cubicBezTo>
                <a:cubicBezTo>
                  <a:pt x="2168" y="200"/>
                  <a:pt x="2696" y="16"/>
                  <a:pt x="2680" y="8"/>
                </a:cubicBezTo>
                <a:cubicBezTo>
                  <a:pt x="2664" y="0"/>
                  <a:pt x="2088" y="160"/>
                  <a:pt x="1960" y="200"/>
                </a:cubicBezTo>
                <a:cubicBezTo>
                  <a:pt x="1832" y="240"/>
                  <a:pt x="1992" y="192"/>
                  <a:pt x="1912" y="248"/>
                </a:cubicBezTo>
                <a:cubicBezTo>
                  <a:pt x="1832" y="304"/>
                  <a:pt x="1584" y="488"/>
                  <a:pt x="1480" y="536"/>
                </a:cubicBezTo>
                <a:cubicBezTo>
                  <a:pt x="1376" y="584"/>
                  <a:pt x="1488" y="584"/>
                  <a:pt x="1288" y="536"/>
                </a:cubicBezTo>
                <a:cubicBezTo>
                  <a:pt x="1088" y="488"/>
                  <a:pt x="464" y="264"/>
                  <a:pt x="280" y="248"/>
                </a:cubicBezTo>
                <a:cubicBezTo>
                  <a:pt x="96" y="232"/>
                  <a:pt x="0" y="376"/>
                  <a:pt x="184" y="440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84320" y="723960"/>
            <a:ext cx="7875720" cy="6269040"/>
          </a:xfrm>
          <a:custGeom>
            <a:avLst/>
            <a:gdLst/>
            <a:ahLst/>
            <a:rect l="l" t="t" r="r" b="b"/>
            <a:pathLst>
              <a:path w="4961" h="3949">
                <a:moveTo>
                  <a:pt x="75" y="3295"/>
                </a:moveTo>
                <a:cubicBezTo>
                  <a:pt x="100" y="3277"/>
                  <a:pt x="127" y="3270"/>
                  <a:pt x="157" y="3261"/>
                </a:cubicBezTo>
                <a:cubicBezTo>
                  <a:pt x="202" y="3248"/>
                  <a:pt x="241" y="3218"/>
                  <a:pt x="287" y="3206"/>
                </a:cubicBezTo>
                <a:cubicBezTo>
                  <a:pt x="316" y="3199"/>
                  <a:pt x="318" y="3202"/>
                  <a:pt x="342" y="3192"/>
                </a:cubicBezTo>
                <a:cubicBezTo>
                  <a:pt x="422" y="3157"/>
                  <a:pt x="500" y="3124"/>
                  <a:pt x="582" y="3096"/>
                </a:cubicBezTo>
                <a:cubicBezTo>
                  <a:pt x="632" y="3079"/>
                  <a:pt x="589" y="3086"/>
                  <a:pt x="637" y="3062"/>
                </a:cubicBezTo>
                <a:cubicBezTo>
                  <a:pt x="664" y="3048"/>
                  <a:pt x="704" y="3030"/>
                  <a:pt x="733" y="3021"/>
                </a:cubicBezTo>
                <a:cubicBezTo>
                  <a:pt x="806" y="2948"/>
                  <a:pt x="702" y="3045"/>
                  <a:pt x="781" y="2993"/>
                </a:cubicBezTo>
                <a:cubicBezTo>
                  <a:pt x="788" y="2989"/>
                  <a:pt x="788" y="2978"/>
                  <a:pt x="795" y="2973"/>
                </a:cubicBezTo>
                <a:cubicBezTo>
                  <a:pt x="805" y="2966"/>
                  <a:pt x="818" y="2965"/>
                  <a:pt x="829" y="2959"/>
                </a:cubicBezTo>
                <a:cubicBezTo>
                  <a:pt x="862" y="2940"/>
                  <a:pt x="892" y="2915"/>
                  <a:pt x="925" y="2897"/>
                </a:cubicBezTo>
                <a:cubicBezTo>
                  <a:pt x="984" y="2865"/>
                  <a:pt x="1046" y="2842"/>
                  <a:pt x="1110" y="2822"/>
                </a:cubicBezTo>
                <a:cubicBezTo>
                  <a:pt x="1161" y="2806"/>
                  <a:pt x="1210" y="2792"/>
                  <a:pt x="1261" y="2774"/>
                </a:cubicBezTo>
                <a:cubicBezTo>
                  <a:pt x="1282" y="2767"/>
                  <a:pt x="1302" y="2760"/>
                  <a:pt x="1323" y="2753"/>
                </a:cubicBezTo>
                <a:cubicBezTo>
                  <a:pt x="1330" y="2751"/>
                  <a:pt x="1343" y="2746"/>
                  <a:pt x="1343" y="2746"/>
                </a:cubicBezTo>
                <a:cubicBezTo>
                  <a:pt x="1368" y="2711"/>
                  <a:pt x="1421" y="2703"/>
                  <a:pt x="1460" y="2685"/>
                </a:cubicBezTo>
                <a:cubicBezTo>
                  <a:pt x="1548" y="2645"/>
                  <a:pt x="1576" y="2643"/>
                  <a:pt x="1679" y="2637"/>
                </a:cubicBezTo>
                <a:cubicBezTo>
                  <a:pt x="1811" y="2593"/>
                  <a:pt x="2230" y="2599"/>
                  <a:pt x="2310" y="2595"/>
                </a:cubicBezTo>
                <a:cubicBezTo>
                  <a:pt x="2467" y="2575"/>
                  <a:pt x="2628" y="2612"/>
                  <a:pt x="2783" y="2582"/>
                </a:cubicBezTo>
                <a:cubicBezTo>
                  <a:pt x="2808" y="2577"/>
                  <a:pt x="2784" y="2531"/>
                  <a:pt x="2790" y="2506"/>
                </a:cubicBezTo>
                <a:cubicBezTo>
                  <a:pt x="2793" y="2493"/>
                  <a:pt x="2831" y="2510"/>
                  <a:pt x="2838" y="2499"/>
                </a:cubicBezTo>
                <a:cubicBezTo>
                  <a:pt x="2854" y="2404"/>
                  <a:pt x="2838" y="2527"/>
                  <a:pt x="2873" y="2465"/>
                </a:cubicBezTo>
                <a:cubicBezTo>
                  <a:pt x="2878" y="2457"/>
                  <a:pt x="2952" y="2406"/>
                  <a:pt x="2955" y="2397"/>
                </a:cubicBezTo>
                <a:cubicBezTo>
                  <a:pt x="2970" y="2357"/>
                  <a:pt x="3021" y="2262"/>
                  <a:pt x="3051" y="2232"/>
                </a:cubicBezTo>
                <a:cubicBezTo>
                  <a:pt x="3079" y="2159"/>
                  <a:pt x="3105" y="2168"/>
                  <a:pt x="3147" y="2102"/>
                </a:cubicBezTo>
                <a:cubicBezTo>
                  <a:pt x="3173" y="2062"/>
                  <a:pt x="3148" y="2013"/>
                  <a:pt x="3188" y="1985"/>
                </a:cubicBezTo>
                <a:cubicBezTo>
                  <a:pt x="3211" y="1952"/>
                  <a:pt x="3203" y="1973"/>
                  <a:pt x="3236" y="1951"/>
                </a:cubicBezTo>
                <a:cubicBezTo>
                  <a:pt x="3253" y="1927"/>
                  <a:pt x="3255" y="1893"/>
                  <a:pt x="3277" y="1875"/>
                </a:cubicBezTo>
                <a:cubicBezTo>
                  <a:pt x="3316" y="1842"/>
                  <a:pt x="3318" y="1864"/>
                  <a:pt x="3373" y="1841"/>
                </a:cubicBezTo>
                <a:cubicBezTo>
                  <a:pt x="3406" y="1809"/>
                  <a:pt x="3424" y="1770"/>
                  <a:pt x="3462" y="1745"/>
                </a:cubicBezTo>
                <a:cubicBezTo>
                  <a:pt x="3442" y="1731"/>
                  <a:pt x="3846" y="957"/>
                  <a:pt x="3846" y="957"/>
                </a:cubicBezTo>
                <a:cubicBezTo>
                  <a:pt x="3866" y="971"/>
                  <a:pt x="3705" y="1407"/>
                  <a:pt x="3716" y="1395"/>
                </a:cubicBezTo>
                <a:cubicBezTo>
                  <a:pt x="3729" y="1381"/>
                  <a:pt x="3564" y="1680"/>
                  <a:pt x="3579" y="1670"/>
                </a:cubicBezTo>
                <a:cubicBezTo>
                  <a:pt x="3634" y="1636"/>
                  <a:pt x="3678" y="1625"/>
                  <a:pt x="3743" y="1615"/>
                </a:cubicBezTo>
                <a:cubicBezTo>
                  <a:pt x="3798" y="1579"/>
                  <a:pt x="3839" y="1543"/>
                  <a:pt x="3901" y="1512"/>
                </a:cubicBezTo>
                <a:cubicBezTo>
                  <a:pt x="3984" y="1470"/>
                  <a:pt x="3944" y="1454"/>
                  <a:pt x="4018" y="1443"/>
                </a:cubicBezTo>
                <a:cubicBezTo>
                  <a:pt x="4091" y="1410"/>
                  <a:pt x="4208" y="1309"/>
                  <a:pt x="4271" y="1258"/>
                </a:cubicBezTo>
                <a:cubicBezTo>
                  <a:pt x="4316" y="1222"/>
                  <a:pt x="4347" y="1177"/>
                  <a:pt x="4402" y="1155"/>
                </a:cubicBezTo>
                <a:cubicBezTo>
                  <a:pt x="4428" y="1115"/>
                  <a:pt x="4398" y="1153"/>
                  <a:pt x="4450" y="1121"/>
                </a:cubicBezTo>
                <a:cubicBezTo>
                  <a:pt x="4458" y="1116"/>
                  <a:pt x="4463" y="1107"/>
                  <a:pt x="4470" y="1101"/>
                </a:cubicBezTo>
                <a:cubicBezTo>
                  <a:pt x="4488" y="1086"/>
                  <a:pt x="4498" y="1085"/>
                  <a:pt x="4518" y="1073"/>
                </a:cubicBezTo>
                <a:cubicBezTo>
                  <a:pt x="4575" y="1040"/>
                  <a:pt x="4604" y="1020"/>
                  <a:pt x="4669" y="1005"/>
                </a:cubicBezTo>
                <a:cubicBezTo>
                  <a:pt x="4712" y="983"/>
                  <a:pt x="4738" y="959"/>
                  <a:pt x="4786" y="943"/>
                </a:cubicBezTo>
                <a:cubicBezTo>
                  <a:pt x="4796" y="0"/>
                  <a:pt x="4718" y="495"/>
                  <a:pt x="4813" y="223"/>
                </a:cubicBezTo>
                <a:cubicBezTo>
                  <a:pt x="4820" y="344"/>
                  <a:pt x="4815" y="332"/>
                  <a:pt x="4854" y="415"/>
                </a:cubicBezTo>
                <a:cubicBezTo>
                  <a:pt x="4862" y="452"/>
                  <a:pt x="4862" y="464"/>
                  <a:pt x="4889" y="490"/>
                </a:cubicBezTo>
                <a:cubicBezTo>
                  <a:pt x="4891" y="556"/>
                  <a:pt x="4891" y="623"/>
                  <a:pt x="4895" y="689"/>
                </a:cubicBezTo>
                <a:cubicBezTo>
                  <a:pt x="4898" y="749"/>
                  <a:pt x="4921" y="814"/>
                  <a:pt x="4930" y="874"/>
                </a:cubicBezTo>
                <a:cubicBezTo>
                  <a:pt x="4923" y="1009"/>
                  <a:pt x="4961" y="1009"/>
                  <a:pt x="4875" y="1039"/>
                </a:cubicBezTo>
                <a:cubicBezTo>
                  <a:pt x="4825" y="1086"/>
                  <a:pt x="4754" y="1120"/>
                  <a:pt x="4690" y="1142"/>
                </a:cubicBezTo>
                <a:cubicBezTo>
                  <a:pt x="4678" y="1146"/>
                  <a:pt x="4660" y="1163"/>
                  <a:pt x="4649" y="1169"/>
                </a:cubicBezTo>
                <a:cubicBezTo>
                  <a:pt x="4594" y="1197"/>
                  <a:pt x="4550" y="1233"/>
                  <a:pt x="4498" y="1265"/>
                </a:cubicBezTo>
                <a:cubicBezTo>
                  <a:pt x="4455" y="1291"/>
                  <a:pt x="4412" y="1319"/>
                  <a:pt x="4367" y="1341"/>
                </a:cubicBezTo>
                <a:cubicBezTo>
                  <a:pt x="4348" y="1350"/>
                  <a:pt x="4306" y="1361"/>
                  <a:pt x="4306" y="1361"/>
                </a:cubicBezTo>
                <a:cubicBezTo>
                  <a:pt x="4270" y="1397"/>
                  <a:pt x="4290" y="1379"/>
                  <a:pt x="4230" y="1423"/>
                </a:cubicBezTo>
                <a:cubicBezTo>
                  <a:pt x="4223" y="1428"/>
                  <a:pt x="4210" y="1437"/>
                  <a:pt x="4210" y="1437"/>
                </a:cubicBezTo>
                <a:cubicBezTo>
                  <a:pt x="4182" y="1477"/>
                  <a:pt x="4164" y="1518"/>
                  <a:pt x="4127" y="1553"/>
                </a:cubicBezTo>
                <a:cubicBezTo>
                  <a:pt x="4099" y="1612"/>
                  <a:pt x="4132" y="1556"/>
                  <a:pt x="4093" y="1594"/>
                </a:cubicBezTo>
                <a:cubicBezTo>
                  <a:pt x="4055" y="1631"/>
                  <a:pt x="4067" y="1681"/>
                  <a:pt x="4004" y="1697"/>
                </a:cubicBezTo>
                <a:cubicBezTo>
                  <a:pt x="3979" y="1722"/>
                  <a:pt x="3964" y="1720"/>
                  <a:pt x="3935" y="1738"/>
                </a:cubicBezTo>
                <a:cubicBezTo>
                  <a:pt x="3869" y="1779"/>
                  <a:pt x="3793" y="1810"/>
                  <a:pt x="3716" y="1827"/>
                </a:cubicBezTo>
                <a:cubicBezTo>
                  <a:pt x="3690" y="1841"/>
                  <a:pt x="3674" y="1860"/>
                  <a:pt x="3647" y="1869"/>
                </a:cubicBezTo>
                <a:cubicBezTo>
                  <a:pt x="3625" y="1891"/>
                  <a:pt x="3599" y="1907"/>
                  <a:pt x="3579" y="1930"/>
                </a:cubicBezTo>
                <a:cubicBezTo>
                  <a:pt x="3546" y="1969"/>
                  <a:pt x="3512" y="2011"/>
                  <a:pt x="3476" y="2047"/>
                </a:cubicBezTo>
                <a:cubicBezTo>
                  <a:pt x="3424" y="2099"/>
                  <a:pt x="3487" y="2018"/>
                  <a:pt x="3435" y="2081"/>
                </a:cubicBezTo>
                <a:cubicBezTo>
                  <a:pt x="3412" y="2109"/>
                  <a:pt x="3417" y="2136"/>
                  <a:pt x="3387" y="2157"/>
                </a:cubicBezTo>
                <a:cubicBezTo>
                  <a:pt x="3357" y="2231"/>
                  <a:pt x="3306" y="2300"/>
                  <a:pt x="3257" y="2362"/>
                </a:cubicBezTo>
                <a:cubicBezTo>
                  <a:pt x="3248" y="2388"/>
                  <a:pt x="3230" y="2401"/>
                  <a:pt x="3215" y="2424"/>
                </a:cubicBezTo>
                <a:cubicBezTo>
                  <a:pt x="3201" y="2472"/>
                  <a:pt x="3219" y="2418"/>
                  <a:pt x="3195" y="2465"/>
                </a:cubicBezTo>
                <a:cubicBezTo>
                  <a:pt x="3183" y="2489"/>
                  <a:pt x="3182" y="2511"/>
                  <a:pt x="3167" y="2534"/>
                </a:cubicBezTo>
                <a:cubicBezTo>
                  <a:pt x="3165" y="2543"/>
                  <a:pt x="3165" y="2553"/>
                  <a:pt x="3161" y="2561"/>
                </a:cubicBezTo>
                <a:cubicBezTo>
                  <a:pt x="3154" y="2576"/>
                  <a:pt x="3133" y="2602"/>
                  <a:pt x="3133" y="2602"/>
                </a:cubicBezTo>
                <a:cubicBezTo>
                  <a:pt x="3023" y="2931"/>
                  <a:pt x="2806" y="2794"/>
                  <a:pt x="2406" y="2808"/>
                </a:cubicBezTo>
                <a:cubicBezTo>
                  <a:pt x="2264" y="2818"/>
                  <a:pt x="2123" y="2837"/>
                  <a:pt x="1981" y="2849"/>
                </a:cubicBezTo>
                <a:cubicBezTo>
                  <a:pt x="1923" y="2864"/>
                  <a:pt x="1878" y="2889"/>
                  <a:pt x="1817" y="2897"/>
                </a:cubicBezTo>
                <a:cubicBezTo>
                  <a:pt x="1802" y="2902"/>
                  <a:pt x="1790" y="2913"/>
                  <a:pt x="1775" y="2918"/>
                </a:cubicBezTo>
                <a:cubicBezTo>
                  <a:pt x="1729" y="2933"/>
                  <a:pt x="1656" y="2948"/>
                  <a:pt x="1611" y="2959"/>
                </a:cubicBezTo>
                <a:cubicBezTo>
                  <a:pt x="1576" y="2968"/>
                  <a:pt x="1543" y="2983"/>
                  <a:pt x="1508" y="2993"/>
                </a:cubicBezTo>
                <a:cubicBezTo>
                  <a:pt x="1481" y="3001"/>
                  <a:pt x="1458" y="3016"/>
                  <a:pt x="1433" y="3027"/>
                </a:cubicBezTo>
                <a:cubicBezTo>
                  <a:pt x="1398" y="3042"/>
                  <a:pt x="1360" y="3049"/>
                  <a:pt x="1323" y="3055"/>
                </a:cubicBezTo>
                <a:cubicBezTo>
                  <a:pt x="1274" y="3090"/>
                  <a:pt x="1230" y="3105"/>
                  <a:pt x="1172" y="3117"/>
                </a:cubicBezTo>
                <a:cubicBezTo>
                  <a:pt x="1114" y="3153"/>
                  <a:pt x="1038" y="3167"/>
                  <a:pt x="973" y="3185"/>
                </a:cubicBezTo>
                <a:cubicBezTo>
                  <a:pt x="937" y="3195"/>
                  <a:pt x="905" y="3213"/>
                  <a:pt x="870" y="3226"/>
                </a:cubicBezTo>
                <a:cubicBezTo>
                  <a:pt x="836" y="3281"/>
                  <a:pt x="775" y="3279"/>
                  <a:pt x="726" y="3315"/>
                </a:cubicBezTo>
                <a:cubicBezTo>
                  <a:pt x="645" y="3375"/>
                  <a:pt x="557" y="3440"/>
                  <a:pt x="466" y="3487"/>
                </a:cubicBezTo>
                <a:cubicBezTo>
                  <a:pt x="450" y="3532"/>
                  <a:pt x="472" y="3486"/>
                  <a:pt x="438" y="3514"/>
                </a:cubicBezTo>
                <a:cubicBezTo>
                  <a:pt x="414" y="3534"/>
                  <a:pt x="422" y="3556"/>
                  <a:pt x="383" y="3569"/>
                </a:cubicBezTo>
                <a:cubicBezTo>
                  <a:pt x="352" y="3591"/>
                  <a:pt x="346" y="3609"/>
                  <a:pt x="322" y="3638"/>
                </a:cubicBezTo>
                <a:cubicBezTo>
                  <a:pt x="308" y="3656"/>
                  <a:pt x="274" y="3686"/>
                  <a:pt x="274" y="3686"/>
                </a:cubicBezTo>
                <a:cubicBezTo>
                  <a:pt x="257" y="3735"/>
                  <a:pt x="283" y="3674"/>
                  <a:pt x="239" y="3720"/>
                </a:cubicBezTo>
                <a:cubicBezTo>
                  <a:pt x="234" y="3725"/>
                  <a:pt x="237" y="3735"/>
                  <a:pt x="233" y="3741"/>
                </a:cubicBezTo>
                <a:cubicBezTo>
                  <a:pt x="213" y="3770"/>
                  <a:pt x="181" y="3792"/>
                  <a:pt x="157" y="3816"/>
                </a:cubicBezTo>
                <a:cubicBezTo>
                  <a:pt x="113" y="3860"/>
                  <a:pt x="123" y="3882"/>
                  <a:pt x="54" y="3905"/>
                </a:cubicBezTo>
                <a:cubicBezTo>
                  <a:pt x="7" y="3937"/>
                  <a:pt x="18" y="3949"/>
                  <a:pt x="6" y="3912"/>
                </a:cubicBezTo>
                <a:cubicBezTo>
                  <a:pt x="11" y="3665"/>
                  <a:pt x="11" y="3661"/>
                  <a:pt x="27" y="3494"/>
                </a:cubicBezTo>
                <a:cubicBezTo>
                  <a:pt x="30" y="3434"/>
                  <a:pt x="0" y="3352"/>
                  <a:pt x="47" y="3315"/>
                </a:cubicBezTo>
                <a:cubicBezTo>
                  <a:pt x="84" y="3286"/>
                  <a:pt x="57" y="3331"/>
                  <a:pt x="75" y="3295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07960"/>
            <a:ext cx="1371600" cy="4749840"/>
          </a:xfrm>
          <a:custGeom>
            <a:avLst/>
            <a:gdLst/>
            <a:ahLst/>
            <a:rect l="l" t="t" r="r" b="b"/>
            <a:pathLst>
              <a:path w="864" h="2992">
                <a:moveTo>
                  <a:pt x="0" y="2992"/>
                </a:moveTo>
                <a:cubicBezTo>
                  <a:pt x="260" y="2676"/>
                  <a:pt x="520" y="2360"/>
                  <a:pt x="624" y="2176"/>
                </a:cubicBezTo>
                <a:cubicBezTo>
                  <a:pt x="728" y="1992"/>
                  <a:pt x="712" y="2080"/>
                  <a:pt x="624" y="1888"/>
                </a:cubicBezTo>
                <a:cubicBezTo>
                  <a:pt x="536" y="1696"/>
                  <a:pt x="192" y="1208"/>
                  <a:pt x="96" y="1024"/>
                </a:cubicBezTo>
                <a:cubicBezTo>
                  <a:pt x="0" y="840"/>
                  <a:pt x="32" y="952"/>
                  <a:pt x="48" y="784"/>
                </a:cubicBezTo>
                <a:cubicBezTo>
                  <a:pt x="64" y="616"/>
                  <a:pt x="184" y="0"/>
                  <a:pt x="192" y="16"/>
                </a:cubicBezTo>
                <a:cubicBezTo>
                  <a:pt x="200" y="32"/>
                  <a:pt x="88" y="720"/>
                  <a:pt x="96" y="880"/>
                </a:cubicBezTo>
                <a:cubicBezTo>
                  <a:pt x="104" y="1040"/>
                  <a:pt x="216" y="1000"/>
                  <a:pt x="240" y="976"/>
                </a:cubicBezTo>
                <a:cubicBezTo>
                  <a:pt x="264" y="952"/>
                  <a:pt x="232" y="736"/>
                  <a:pt x="240" y="736"/>
                </a:cubicBezTo>
                <a:cubicBezTo>
                  <a:pt x="248" y="736"/>
                  <a:pt x="280" y="912"/>
                  <a:pt x="288" y="976"/>
                </a:cubicBezTo>
                <a:cubicBezTo>
                  <a:pt x="296" y="1040"/>
                  <a:pt x="264" y="1050"/>
                  <a:pt x="288" y="1120"/>
                </a:cubicBezTo>
                <a:cubicBezTo>
                  <a:pt x="312" y="1190"/>
                  <a:pt x="344" y="1242"/>
                  <a:pt x="432" y="1394"/>
                </a:cubicBezTo>
                <a:cubicBezTo>
                  <a:pt x="520" y="1546"/>
                  <a:pt x="768" y="1894"/>
                  <a:pt x="816" y="2032"/>
                </a:cubicBezTo>
                <a:cubicBezTo>
                  <a:pt x="864" y="2170"/>
                  <a:pt x="808" y="2072"/>
                  <a:pt x="720" y="2224"/>
                </a:cubicBezTo>
                <a:cubicBezTo>
                  <a:pt x="632" y="2376"/>
                  <a:pt x="360" y="2824"/>
                  <a:pt x="288" y="2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3048120"/>
            <a:ext cx="1222200" cy="1704960"/>
          </a:xfrm>
          <a:custGeom>
            <a:avLst/>
            <a:gdLst/>
            <a:ahLst/>
            <a:rect l="l" t="t" r="r" b="b"/>
            <a:pathLst>
              <a:path w="770" h="1074">
                <a:moveTo>
                  <a:pt x="192" y="978"/>
                </a:moveTo>
                <a:cubicBezTo>
                  <a:pt x="218" y="876"/>
                  <a:pt x="254" y="528"/>
                  <a:pt x="350" y="368"/>
                </a:cubicBezTo>
                <a:cubicBezTo>
                  <a:pt x="446" y="208"/>
                  <a:pt x="770" y="36"/>
                  <a:pt x="768" y="18"/>
                </a:cubicBezTo>
                <a:cubicBezTo>
                  <a:pt x="766" y="0"/>
                  <a:pt x="424" y="186"/>
                  <a:pt x="336" y="258"/>
                </a:cubicBezTo>
                <a:cubicBezTo>
                  <a:pt x="248" y="330"/>
                  <a:pt x="281" y="458"/>
                  <a:pt x="240" y="450"/>
                </a:cubicBezTo>
                <a:cubicBezTo>
                  <a:pt x="199" y="442"/>
                  <a:pt x="97" y="202"/>
                  <a:pt x="89" y="210"/>
                </a:cubicBezTo>
                <a:cubicBezTo>
                  <a:pt x="81" y="218"/>
                  <a:pt x="175" y="410"/>
                  <a:pt x="192" y="498"/>
                </a:cubicBezTo>
                <a:cubicBezTo>
                  <a:pt x="209" y="586"/>
                  <a:pt x="208" y="714"/>
                  <a:pt x="192" y="738"/>
                </a:cubicBezTo>
                <a:cubicBezTo>
                  <a:pt x="176" y="762"/>
                  <a:pt x="128" y="690"/>
                  <a:pt x="96" y="642"/>
                </a:cubicBezTo>
                <a:cubicBezTo>
                  <a:pt x="64" y="594"/>
                  <a:pt x="0" y="434"/>
                  <a:pt x="0" y="450"/>
                </a:cubicBezTo>
                <a:cubicBezTo>
                  <a:pt x="0" y="466"/>
                  <a:pt x="72" y="668"/>
                  <a:pt x="96" y="738"/>
                </a:cubicBezTo>
                <a:cubicBezTo>
                  <a:pt x="120" y="808"/>
                  <a:pt x="144" y="812"/>
                  <a:pt x="144" y="868"/>
                </a:cubicBezTo>
                <a:cubicBezTo>
                  <a:pt x="144" y="924"/>
                  <a:pt x="106" y="1031"/>
                  <a:pt x="96" y="107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8840" y="1778040"/>
            <a:ext cx="1176480" cy="1498680"/>
          </a:xfrm>
          <a:custGeom>
            <a:avLst/>
            <a:gdLst/>
            <a:ahLst/>
            <a:rect l="l" t="t" r="r" b="b"/>
            <a:pathLst>
              <a:path w="741" h="944">
                <a:moveTo>
                  <a:pt x="0" y="910"/>
                </a:moveTo>
                <a:cubicBezTo>
                  <a:pt x="37" y="828"/>
                  <a:pt x="98" y="562"/>
                  <a:pt x="213" y="416"/>
                </a:cubicBezTo>
                <a:cubicBezTo>
                  <a:pt x="328" y="270"/>
                  <a:pt x="645" y="64"/>
                  <a:pt x="693" y="32"/>
                </a:cubicBezTo>
                <a:cubicBezTo>
                  <a:pt x="741" y="0"/>
                  <a:pt x="573" y="152"/>
                  <a:pt x="501" y="224"/>
                </a:cubicBezTo>
                <a:cubicBezTo>
                  <a:pt x="429" y="296"/>
                  <a:pt x="333" y="344"/>
                  <a:pt x="261" y="464"/>
                </a:cubicBezTo>
                <a:cubicBezTo>
                  <a:pt x="189" y="584"/>
                  <a:pt x="101" y="864"/>
                  <a:pt x="69" y="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541400">
            <a:off x="1886040" y="20350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5800">
            <a:off x="7315200" y="3122280"/>
            <a:ext cx="201600" cy="35244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73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9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101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746200">
            <a:off x="6705720" y="4419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62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265800">
            <a:off x="7315200" y="3123720"/>
            <a:ext cx="201600" cy="352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541400">
            <a:off x="1893960" y="20350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76200">
            <a:off x="6705360" y="441936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572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741400">
            <a:off x="6219360" y="873000"/>
            <a:ext cx="1374480" cy="11365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775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1599480"/>
            <a:ext cx="1219320" cy="13129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678400">
            <a:off x="2438280" y="1447560"/>
            <a:ext cx="955800" cy="877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42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3477600">
            <a:off x="1675440" y="837720"/>
            <a:ext cx="1066680" cy="137196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9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20245800">
            <a:off x="848520" y="2038320"/>
            <a:ext cx="1058760" cy="12780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214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817000">
            <a:off x="7675560" y="2957040"/>
            <a:ext cx="99072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28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071600">
            <a:off x="322200" y="815040"/>
            <a:ext cx="1227240" cy="11257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02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90200">
            <a:off x="2590560" y="342900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43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735600">
            <a:off x="2590560" y="342900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752000">
            <a:off x="6544440" y="23706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524000">
            <a:off x="7543440" y="144792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19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950000">
            <a:off x="5334120" y="167616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515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752000">
            <a:off x="4106160" y="275148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478800">
            <a:off x="1219320" y="495252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5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21478800">
            <a:off x="1219320" y="4952520"/>
            <a:ext cx="3045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665400">
            <a:off x="295560" y="4276080"/>
            <a:ext cx="106704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43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243000">
            <a:off x="647640" y="3848040"/>
            <a:ext cx="1295280" cy="1066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86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62800" y="4159800"/>
            <a:ext cx="478800" cy="649800"/>
            <a:chOff x="6562800" y="4159800"/>
            <a:chExt cx="478800" cy="649800"/>
          </a:xfrm>
        </p:grpSpPr>
        <p:sp>
          <p:nvSpPr>
            <p:cNvPr id="96" name=""/>
            <p:cNvSpPr/>
            <p:nvPr/>
          </p:nvSpPr>
          <p:spPr>
            <a:xfrm rot="20149200">
              <a:off x="6705720" y="44100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271000">
              <a:off x="6634080" y="419652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68600" y="3177360"/>
            <a:ext cx="392760" cy="627120"/>
            <a:chOff x="2568600" y="3177360"/>
            <a:chExt cx="392760" cy="627120"/>
          </a:xfrm>
        </p:grpSpPr>
        <p:sp>
          <p:nvSpPr>
            <p:cNvPr id="99" name=""/>
            <p:cNvSpPr/>
            <p:nvPr/>
          </p:nvSpPr>
          <p:spPr>
            <a:xfrm rot="621600">
              <a:off x="2598480" y="34236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43400">
              <a:off x="2638440" y="320220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2743200"/>
            <a:ext cx="1600200" cy="1447560"/>
            <a:chOff x="1828800" y="2743200"/>
            <a:chExt cx="1600200" cy="1447560"/>
          </a:xfrm>
        </p:grpSpPr>
        <p:sp>
          <p:nvSpPr>
            <p:cNvPr id="102" name=""/>
            <p:cNvSpPr/>
            <p:nvPr/>
          </p:nvSpPr>
          <p:spPr>
            <a:xfrm>
              <a:off x="1828800" y="2743200"/>
              <a:ext cx="1600200" cy="144756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287800" y="3316320"/>
              <a:ext cx="606600" cy="605160"/>
              <a:chOff x="2287800" y="3316320"/>
              <a:chExt cx="606600" cy="60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419560" y="335268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8836400">
                <a:off x="2391120" y="339012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10644600">
            <a:off x="2285280" y="373356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635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428840" y="762120"/>
            <a:ext cx="1428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71200" y="4065840"/>
            <a:ext cx="1551600" cy="1368000"/>
            <a:chOff x="5371200" y="4065840"/>
            <a:chExt cx="1551600" cy="1368000"/>
          </a:xfrm>
        </p:grpSpPr>
        <p:sp>
          <p:nvSpPr>
            <p:cNvPr id="109" name=""/>
            <p:cNvSpPr/>
            <p:nvPr/>
          </p:nvSpPr>
          <p:spPr>
            <a:xfrm flipH="1" rot="19786800">
              <a:off x="5485680" y="4343040"/>
              <a:ext cx="1322280" cy="81288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95480" y="4931640"/>
              <a:ext cx="186120" cy="214560"/>
              <a:chOff x="5595480" y="4931640"/>
              <a:chExt cx="186120" cy="214560"/>
            </a:xfrm>
          </p:grpSpPr>
          <p:sp>
            <p:nvSpPr>
              <p:cNvPr id="111" name=""/>
              <p:cNvSpPr/>
              <p:nvPr/>
            </p:nvSpPr>
            <p:spPr>
              <a:xfrm flipH="1" rot="19786800">
                <a:off x="5634360" y="4945680"/>
                <a:ext cx="107280" cy="185760"/>
              </a:xfrm>
              <a:custGeom>
                <a:avLst/>
                <a:gdLst>
                  <a:gd name="textAreaLeft" fmla="*/ 44280 w 107280"/>
                  <a:gd name="textAreaRight" fmla="*/ 63000 w 107280"/>
                  <a:gd name="textAreaTop" fmla="*/ 76680 h 185760"/>
                  <a:gd name="textAreaBottom" fmla="*/ 109080 h 18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949800">
                <a:off x="5617800" y="4967280"/>
                <a:ext cx="139320" cy="142920"/>
              </a:xfrm>
              <a:custGeom>
                <a:avLst/>
                <a:gdLst>
                  <a:gd name="textAreaLeft" fmla="*/ 57240 w 139320"/>
                  <a:gd name="textAreaRight" fmla="*/ 82080 w 139320"/>
                  <a:gd name="textAreaTop" fmla="*/ 58680 h 142920"/>
                  <a:gd name="textAreaBottom" fmla="*/ 8424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5919120" y="3483000"/>
            <a:ext cx="1497240" cy="1644480"/>
            <a:chOff x="5919120" y="3483000"/>
            <a:chExt cx="1497240" cy="1644480"/>
          </a:xfrm>
        </p:grpSpPr>
        <p:sp>
          <p:nvSpPr>
            <p:cNvPr id="114" name=""/>
            <p:cNvSpPr/>
            <p:nvPr/>
          </p:nvSpPr>
          <p:spPr>
            <a:xfrm flipH="1" rot="16092000">
              <a:off x="5867280" y="3580920"/>
              <a:ext cx="1600200" cy="144792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445080" y="3980160"/>
              <a:ext cx="606240" cy="595800"/>
              <a:chOff x="6445080" y="3980160"/>
              <a:chExt cx="606240" cy="595800"/>
            </a:xfrm>
          </p:grpSpPr>
          <p:sp>
            <p:nvSpPr>
              <p:cNvPr id="116" name=""/>
              <p:cNvSpPr/>
              <p:nvPr/>
            </p:nvSpPr>
            <p:spPr>
              <a:xfrm rot="16706400">
                <a:off x="6577200" y="401112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942200">
                <a:off x="6548040" y="404928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 rot="4492800">
            <a:off x="6892920" y="397008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9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8080" y="3955680"/>
            <a:ext cx="1833480" cy="1765800"/>
            <a:chOff x="4798080" y="3955680"/>
            <a:chExt cx="1833480" cy="1765800"/>
          </a:xfrm>
        </p:grpSpPr>
        <p:sp>
          <p:nvSpPr>
            <p:cNvPr id="120" name=""/>
            <p:cNvSpPr/>
            <p:nvPr/>
          </p:nvSpPr>
          <p:spPr>
            <a:xfrm rot="5041800">
              <a:off x="4914720" y="4000320"/>
              <a:ext cx="160020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041800">
              <a:off x="5140800" y="5253840"/>
              <a:ext cx="17676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80560" y="2586960"/>
            <a:ext cx="1954440" cy="1836720"/>
            <a:chOff x="2680560" y="2586960"/>
            <a:chExt cx="1954440" cy="1836720"/>
          </a:xfrm>
        </p:grpSpPr>
        <p:sp>
          <p:nvSpPr>
            <p:cNvPr id="123" name=""/>
            <p:cNvSpPr/>
            <p:nvPr/>
          </p:nvSpPr>
          <p:spPr>
            <a:xfrm flipV="1" rot="4685400">
              <a:off x="2895480" y="2667240"/>
              <a:ext cx="152388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4685400">
              <a:off x="4183200" y="3726360"/>
              <a:ext cx="16848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29000" y="708660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0.01111 L 0.27188 -0.48334 E">
                                      <p:cBhvr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88 -0.48334 L 0.33855 -1.32778 E">
                                      <p:cBhvr>
                                        <p:cTn id="146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44444E-006 L 0.3698 0.26112 E">
                                      <p:cBhvr>
                                        <p:cTn id="149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8 0.26134 L 0.6698 -0.36135 E">
                                      <p:cBhvr>
                                        <p:cTn id="152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-3.33333E-006 C 0.02743 0.02408 0.05469 0.04815 0.06354 0.07523 C 0.0724 0.10255 0.06875 0.1382 0.05295 0.1632 C 0.03698 0.18843 -0.00521 0.20093 -0.03177 0.22616 C -0.05816 0.25116 -0.10052 0.27431 -0.10573 0.31412 C -0.11094 0.35394 -0.08628 0.40417 -0.06337 0.46482 C -0.04045 0.5257 0.01597 0.64306 0.03177 0.67871 E">
                                      <p:cBhvr>
                                        <p:cTn id="154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22222E-006 1.11022E-016 C -0.01406 0.02407 -0.02795 0.04815 -0.03246 0.07523 C -0.0368 0.10255 -0.03507 0.13819 -0.02708 0.16319 C -0.01892 0.18843 0.00261 0.20093 0.01615 0.22616 C 0.02952 0.25116 0.05104 0.27431 0.05365 0.31412 C 0.05643 0.35394 0.04375 0.40417 0.03212 0.46481 C 0.02049 0.52569 -0.00816 0.64306 -0.01632 0.6787 E">
                                      <p:cBhvr>
                                        <p:cTn id="156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5400000">
                                      <p:cBhvr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16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3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3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5T07:49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